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CED0B-7D6F-416E-B6C2-87C004BD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5F67-AFDC-4751-9C64-EE424073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A405-CC40-49F1-BA68-4E7DD5BA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384E-7FA2-4A46-9443-48ADAB4F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8E66-5987-4DD1-A873-51EBB011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B797-7BB7-4F70-BCB0-04153A4F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6ADB-9B8E-4855-823D-2BCCAB20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9392-75F4-4011-928A-7B79558E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0D3C-7B90-433F-8BE2-4B67533B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2400-0019-499A-A949-DED179EC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842C-DA28-479B-B7F0-B13F97A6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ABAB-8B3D-4658-A3FE-C828A968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7B39-469B-43FC-A261-C9ADF82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A451-1EC6-4E77-A28D-BF6E534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CF97-6C59-4766-A3E2-266CDE93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2B33-DD54-4411-AD13-5C6A3546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5FD9-CA53-4B63-8403-6D0BF960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6489-0D69-4785-8B3F-2AA718BA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8472-ABF3-4EA7-B4E0-B2D3A8DC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7094-7C5C-47CA-873F-34B516E2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41AA-90EC-4A62-805C-4FBE7FA0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A1C5-3DA9-4093-B692-D13515D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8EFD-768E-4531-8B1E-5330001D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5407-9D05-44DB-9412-82DBA464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5FAE-49AE-4A2F-AB79-974615E3C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EB0C-2986-438B-AF41-0DB5EC3B6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Limba_japonez&#259;" TargetMode="External"/><Relationship Id="rId2" Type="http://schemas.openxmlformats.org/officeDocument/2006/relationships/hyperlink" Target="http://ro.wikipedia.org/wiki/Ritual" TargetMode="External"/><Relationship Id="rId3" Type="http://schemas.openxmlformats.org/officeDocument/2006/relationships/hyperlink" Target="http://ro.wikipedia.org/wiki/Budism" TargetMode="External"/><Relationship Id="rId4" Type="http://schemas.openxmlformats.org/officeDocument/2006/relationships/hyperlink" Target="http://ro.wikipedia.org/wiki/Zen" TargetMode="External"/><Relationship Id="rId5" Type="http://schemas.openxmlformats.org/officeDocument/2006/relationships/hyperlink" Target="http://ro.wikipedia.org/wiki/Ceai" TargetMode="External"/><Relationship Id="rId6" Type="http://schemas.openxmlformats.org/officeDocument/2006/relationships/hyperlink" Target="http://ro.wikipedia.org/wiki/Matcha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o.wikipedia.org/wiki/Medicament" TargetMode="External"/><Relationship Id="rId2" Type="http://schemas.openxmlformats.org/officeDocument/2006/relationships/hyperlink" Target="http://ro.wikipedia.org/wiki/Camelia_sinensis" TargetMode="External"/><Relationship Id="rId3" Type="http://schemas.openxmlformats.org/officeDocument/2006/relationships/hyperlink" Target="http://ro.wikipedia.org/wiki/Camelia_sinensis" TargetMode="External"/><Relationship Id="rId4" Type="http://schemas.openxmlformats.org/officeDocument/2006/relationships/hyperlink" Target="http://ro.wikipedia.org/wiki/Asia" TargetMode="External"/><Relationship Id="rId5" Type="http://schemas.openxmlformats.org/officeDocument/2006/relationships/hyperlink" Target="http://ro.wikipedia.org/wiki/China" TargetMode="External"/><Relationship Id="rId6" Type="http://schemas.openxmlformats.org/officeDocument/2006/relationships/hyperlink" Target="http://ro.wikipedia.org/wiki/Tang" TargetMode="External"/><Relationship Id="rId7" Type="http://schemas.openxmlformats.org/officeDocument/2006/relationships/hyperlink" Target="http://ro.wikipedia.org/wiki/616" TargetMode="External"/><Relationship Id="rId8" Type="http://schemas.openxmlformats.org/officeDocument/2006/relationships/hyperlink" Target="http://ro.wikipedia.org/wiki/907" TargetMode="External"/><Relationship Id="rId9" Type="http://schemas.openxmlformats.org/officeDocument/2006/relationships/hyperlink" Target="http://ro.wikipedia.org/wiki/Lu_Yu" TargetMode="External"/><Relationship Id="rId10" Type="http://schemas.openxmlformats.org/officeDocument/2006/relationships/hyperlink" Target="http://ro.wikipedia.org/wiki/Lu_Yu" TargetMode="External"/><Relationship Id="rId11" Type="http://schemas.openxmlformats.org/officeDocument/2006/relationships/hyperlink" Target="http://ro.wikipedia.org/wiki/Lu_Yu" TargetMode="External"/><Relationship Id="rId12" Type="http://schemas.openxmlformats.org/officeDocument/2006/relationships/hyperlink" Target="http://ro.wikipedia.org/wiki/733" TargetMode="External"/><Relationship Id="rId13" Type="http://schemas.openxmlformats.org/officeDocument/2006/relationships/hyperlink" Target="http://ro.wikipedia.org/wiki/804" TargetMode="External"/><Relationship Id="rId14" Type="http://schemas.openxmlformats.org/officeDocument/2006/relationships/hyperlink" Target="http://ro.wikipedia.org/wiki/Ghimbir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o.wikipedia.org/wiki/Art&#259;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JAPONIA, </a:t>
            </a:r>
            <a:r>
              <a:rPr b="0" lang="ro-RO" sz="4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RA SOARELUI R</a:t>
            </a:r>
            <a:r>
              <a:rPr b="0" lang="ro-RO" sz="4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AR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Tradiţia ceaiul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Poşchină Oa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Clasa a XI-a 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Esența ceremoniei ceaiulu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ența ceremoniei ceaiului este armonia. Fiecare mișcare și fiecare componentă a acestui ceremonial sunt studiate pentru a crea imaginea serenității absolute. Această tradiție a fost începută de călugării budiști acum 700 de ani. 200 de ani mai târziu, Sen no Rikyu a transformat simpla ceremonie concepută de călugări într-un adevărat rit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280" y="112536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Ceremonia ceaiulu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茶の湯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noy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茶道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dō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sau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sadō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în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japoneză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 este un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itual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tradițional influențat d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dismul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Zen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prin car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ceaiul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verd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match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抹茶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 — sau „roua prețioasă lichidă” — este preparat într-o manieră ceremonioasă de către o persoană inițiată și servit unui grup mic de oaspeți într-o atmosferă liniștită. În esența sa, ceremonia ceaiului reprezintă expresia sintetică a aspectelor fundamentale ale culturii japonez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11640" y="3141720"/>
            <a:ext cx="4545000" cy="334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5222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-36720"/>
            <a:ext cx="80647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Isto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eaiul a fost înainte de toate un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medicamen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 Planta ceaiului (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amelia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inensis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 se pare că este originară din munții din sudul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Asiei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, de unde a fost adusă în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China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 În timpul dinastiei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Tang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616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907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 ceaiul era băut mai ales pentru gustul său și era așa de important încât a devenit subiectul unei cărți în trei volume numită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á jīng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, („Cartea sacră a ceaiului”), scrisă d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Lu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Y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733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804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), poet chinez. În acea perioadă frunzele de ceai se presau și se uscau în formă de calupuri solide. Pentru preparare se foloseau diverse arome, spre exemplu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ghimbir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și s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Introducere în ceremonia ceai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Numele de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noy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este cunoscut ca având semnificația de „ceremonia japoneză a ceaiului”, deși tradus exact înseamnă, de fapt, „apă fierbinte pentru ceai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În cultura japoneză, orice formă de </a:t>
            </a:r>
            <a:r>
              <a:rPr b="0" lang="ro-RO" sz="3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rtă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este descrisă ca o „cale” spirituală. În acest sens întâlnim „calea florilor” (ikebana), „calea caligrafiei” (shodo), „calea poeziei” (haiku), „calea sabiei” (kendo) etc. Corespondentul pentru chanoyu este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do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(„calea ceaiului”), aceasta reprezentând calea spirituală a ceremoniei ceaiulu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Decorațiunile care însoțesc această ceremonie sunt de obicei simple, dar elocvente: fie o chabana, fie o caligrafie semnificativă. Instrumentele de pregătire sunt aranjate în stil ceremonios de către gazdă, reflectând armonia valorilor ceaiului. Toți invitații folosesc aceeași ceșcuță, în fața căreia fac o plecăciune, o rotesc cu o gestică precisă și apoi o golesc prin înghițituri mici și rare. După terminarea lichidului, marginea ceștii este ștearsă cu degete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108000"/>
            <a:ext cx="7632720" cy="71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Tradiția cere ca invitații să adreseze gazdei complimente și întrebări, și să admire decorul, instrumentele și măiestria preparării. Cu timpul, această ceremonie a evoluat și a condus la apariția teismului, care în esență cere celui inițiat puterea de a pătrunde și a aprecia savoarea ceaiului, dar și a ceremonialului propriu-zis, și de a se bucura de lucrurile simpl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Ceremonia ceaiului este cunoscută cu următoarele denumiri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900" spc="-1" strike="noStrike">
                <a:solidFill>
                  <a:srgbClr val="000000"/>
                </a:solidFill>
                <a:latin typeface="Arial"/>
              </a:rPr>
              <a:t>Chanoyu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(metoda antică)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900" spc="-1" strike="noStrike">
                <a:solidFill>
                  <a:srgbClr val="000000"/>
                </a:solidFill>
                <a:latin typeface="Arial"/>
              </a:rPr>
              <a:t>Sencha-do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(metoda modernă)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900" spc="-1" strike="noStrike">
                <a:solidFill>
                  <a:srgbClr val="000000"/>
                </a:solidFill>
                <a:latin typeface="Arial"/>
              </a:rPr>
              <a:t>Misonodoma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(metoda pentru occidentali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900" spc="-1" strike="noStrike">
                <a:solidFill>
                  <a:srgbClr val="000000"/>
                </a:solidFill>
                <a:latin typeface="Arial"/>
              </a:rPr>
              <a:t>Ryakubon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(metoda pentru exterior).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79912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eremonia ceaiului a jucat un rol important în viața culturală și artistică a Japoniei timp de mai bine de 400 de ani. Această artă este mai mult decât o ceremonie a ceaiului, este un mod de disciplinare a sufletului omenesc. Esența ceremonialului este de natură spirituală și presupune o anumită stare sufletească din partea participanților. Cei ce se adună să ia parte la ceremonial trebuie să lase afară toate necazurile și grijile vieții cotidiene înainte de a intra în </a:t>
            </a:r>
            <a:r>
              <a:rPr b="0" i="1" lang="ro-RO" sz="3000" spc="-1" strike="noStrike">
                <a:solidFill>
                  <a:srgbClr val="000000"/>
                </a:solidFill>
                <a:latin typeface="Arial"/>
              </a:rPr>
              <a:t>chashitsu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pentru a petrece clipe de liniște într-o atmosferă calm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76944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2:57:48Z</dcterms:created>
  <dc:creator>elev</dc:creator>
  <dc:description/>
  <dc:language>en-US</dc:language>
  <cp:lastModifiedBy>elev</cp:lastModifiedBy>
  <dcterms:modified xsi:type="dcterms:W3CDTF">2011-04-07T13:09:33Z</dcterms:modified>
  <cp:revision>2</cp:revision>
  <dc:subject/>
  <dc:title>JAPONIA, ŢARA SOARELUI RĂSARE</dc:title>
</cp:coreProperties>
</file>